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60480" y="6553080"/>
            <a:ext cx="6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-</a:t>
            </a:r>
            <a:fld id="{5E4CF3F2-8B48-4A45-B033-D28D7534A5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7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276200"/>
            <a:ext cx="156672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Character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Barriers to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Monopoly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Price and Marginal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Marginal Revenue and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Profit Max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Misconce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Loss Min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Economic Effects of Monop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Price Discr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Regulated Monop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Last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interactive_graphs.html" TargetMode="External"/><Relationship Id="rId2" Type="http://schemas.openxmlformats.org/officeDocument/2006/relationships/hyperlink" Target="http://highered.mcgraw-hill.com/sites/0073126632/student_view0/chapter22/interactive_graphs.html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highered.mcgraw-hill.com/sites/0073126632/student_view0/chapter22/worked_problems.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highered.mcgraw-hill.com/sites/0073126632/student_view0/chapter22/worked_problems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2/origin_of_the_idea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2/origin_of_the_idea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worked_problem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highered.mcgraw-hill.com/sites/0073126632/student_view0/chapter22/worked_problems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2/origin_of_the_idea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2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2/origin_of_the_idea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3680" y="304920"/>
            <a:ext cx="216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22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3790800"/>
            <a:ext cx="5807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2681" b="0"/>
          <a:stretch/>
        </p:blipFill>
        <p:spPr>
          <a:xfrm>
            <a:off x="5726160" y="219240"/>
            <a:ext cx="2360520" cy="45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3280" y="979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nopoly Revenue and Cos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52120" y="901800"/>
            <a:ext cx="7086600" cy="57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onopolist is a Price Maker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ets Price in the Elastic Regio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Output and Price Determinatio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st Dat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No Supply Curv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133480" y="5146560"/>
            <a:ext cx="717120" cy="729360"/>
            <a:chOff x="8133480" y="5146560"/>
            <a:chExt cx="717120" cy="729360"/>
          </a:xfrm>
        </p:grpSpPr>
        <p:sp>
          <p:nvSpPr>
            <p:cNvPr id="329" name="">
              <a:hlinkClick r:id="rId1"/>
            </p:cNvPr>
            <p:cNvSpPr/>
            <p:nvPr/>
          </p:nvSpPr>
          <p:spPr>
            <a:xfrm>
              <a:off x="8133480" y="5568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22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250120" y="5146560"/>
              <a:ext cx="436320" cy="47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8139240" y="5943600"/>
            <a:ext cx="746280" cy="710280"/>
            <a:chOff x="8139240" y="5943600"/>
            <a:chExt cx="746280" cy="710280"/>
          </a:xfrm>
        </p:grpSpPr>
        <p:pic>
          <p:nvPicPr>
            <p:cNvPr id="332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228160" y="59436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>
              <a:hlinkClick r:id="rId6"/>
            </p:cNvPr>
            <p:cNvSpPr/>
            <p:nvPr/>
          </p:nvSpPr>
          <p:spPr>
            <a:xfrm>
              <a:off x="8139240" y="63468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2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indefinite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indefinite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938320" y="1654200"/>
            <a:ext cx="5443560" cy="41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49480" y="3309840"/>
            <a:ext cx="2449440" cy="466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fit Maximiz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70120" y="573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057400" y="1509840"/>
            <a:ext cx="6330960" cy="4885560"/>
            <a:chOff x="2057400" y="1509840"/>
            <a:chExt cx="6330960" cy="4885560"/>
          </a:xfrm>
        </p:grpSpPr>
        <p:grpSp>
          <p:nvGrpSpPr>
            <p:cNvPr id="339" name=""/>
            <p:cNvGrpSpPr/>
            <p:nvPr/>
          </p:nvGrpSpPr>
          <p:grpSpPr>
            <a:xfrm>
              <a:off x="2329200" y="1509840"/>
              <a:ext cx="577080" cy="3891240"/>
              <a:chOff x="2329200" y="1509840"/>
              <a:chExt cx="577080" cy="3891240"/>
            </a:xfrm>
          </p:grpSpPr>
          <p:sp>
            <p:nvSpPr>
              <p:cNvPr id="340" name=""/>
              <p:cNvSpPr/>
              <p:nvPr/>
            </p:nvSpPr>
            <p:spPr>
              <a:xfrm>
                <a:off x="2329200" y="1509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27840" y="20062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27840" y="25365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27840" y="3044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26840" y="5094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27840" y="3573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26840" y="40813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6840" y="4589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rot="16200000">
              <a:off x="862920" y="3275280"/>
              <a:ext cx="27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rice, Costs, and 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944800" y="1662120"/>
              <a:ext cx="5443560" cy="4134960"/>
              <a:chOff x="2944800" y="1662120"/>
              <a:chExt cx="5443560" cy="4134960"/>
            </a:xfrm>
          </p:grpSpPr>
          <p:sp>
            <p:nvSpPr>
              <p:cNvPr id="350" name=""/>
              <p:cNvSpPr/>
              <p:nvPr/>
            </p:nvSpPr>
            <p:spPr>
              <a:xfrm>
                <a:off x="2944800" y="1662120"/>
                <a:ext cx="5443560" cy="41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446640" y="1665000"/>
                <a:ext cx="3949560" cy="4123440"/>
                <a:chOff x="3446640" y="1665000"/>
                <a:chExt cx="3949560" cy="4123440"/>
              </a:xfrm>
            </p:grpSpPr>
            <p:sp>
              <p:nvSpPr>
                <p:cNvPr id="352" name=""/>
                <p:cNvSpPr/>
                <p:nvPr/>
              </p:nvSpPr>
              <p:spPr>
                <a:xfrm flipV="1">
                  <a:off x="34466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442908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49230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393876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541008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59054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64040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8994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73962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46600" y="2171520"/>
                <a:ext cx="5441400" cy="3082320"/>
                <a:chOff x="2946600" y="2171520"/>
                <a:chExt cx="5441400" cy="3082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946600" y="268560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46600" y="320436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46600" y="217152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946600" y="423792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946600" y="474588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946600" y="372348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946600" y="525384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 flipV="1">
                <a:off x="7893000" y="1672920"/>
                <a:ext cx="0" cy="41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307680" y="5796000"/>
              <a:ext cx="4772880" cy="307080"/>
              <a:chOff x="3307680" y="5796000"/>
              <a:chExt cx="4772880" cy="307080"/>
            </a:xfrm>
          </p:grpSpPr>
          <p:sp>
            <p:nvSpPr>
              <p:cNvPr id="371" name=""/>
              <p:cNvSpPr/>
              <p:nvPr/>
            </p:nvSpPr>
            <p:spPr>
              <a:xfrm>
                <a:off x="330768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9368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9048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7612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26212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5892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5572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5288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49680" y="5796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01840" y="5796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993920" y="605808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919600" y="70488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By A Pure Monopo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20920" y="2468520"/>
            <a:ext cx="4399200" cy="1908360"/>
          </a:xfrm>
          <a:custGeom>
            <a:avLst/>
            <a:gdLst/>
            <a:ahLst/>
            <a:rect l="l" t="t" r="r" b="b"/>
            <a:pathLst>
              <a:path w="2771" h="1202">
                <a:moveTo>
                  <a:pt x="0" y="782"/>
                </a:moveTo>
                <a:cubicBezTo>
                  <a:pt x="122" y="843"/>
                  <a:pt x="500" y="1088"/>
                  <a:pt x="734" y="1145"/>
                </a:cubicBezTo>
                <a:cubicBezTo>
                  <a:pt x="968" y="1202"/>
                  <a:pt x="1198" y="1185"/>
                  <a:pt x="1406" y="1125"/>
                </a:cubicBezTo>
                <a:cubicBezTo>
                  <a:pt x="1614" y="1065"/>
                  <a:pt x="1755" y="969"/>
                  <a:pt x="1982" y="782"/>
                </a:cubicBezTo>
                <a:cubicBezTo>
                  <a:pt x="2209" y="595"/>
                  <a:pt x="2492" y="300"/>
                  <a:pt x="277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55000" y="4189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74200" y="52308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37200" y="3416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2400" y="21686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93080" y="44719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=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3298680"/>
            <a:ext cx="0" cy="249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949120" y="3309840"/>
            <a:ext cx="246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946240" y="3784680"/>
            <a:ext cx="246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5280" y="2840040"/>
            <a:ext cx="891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1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34440" y="419724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2960" y="3102120"/>
            <a:ext cx="34776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2971440" y="3832200"/>
            <a:ext cx="338040" cy="43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018040" y="4332240"/>
            <a:ext cx="30492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19760" y="3313080"/>
            <a:ext cx="1031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1320" y="1774800"/>
            <a:ext cx="4440240" cy="2100240"/>
          </a:xfrm>
          <a:custGeom>
            <a:avLst/>
            <a:gdLst/>
            <a:ahLst/>
            <a:rect l="l" t="t" r="r" b="b"/>
            <a:pathLst>
              <a:path w="2797" h="1323">
                <a:moveTo>
                  <a:pt x="0" y="0"/>
                </a:moveTo>
                <a:cubicBezTo>
                  <a:pt x="35" y="84"/>
                  <a:pt x="125" y="353"/>
                  <a:pt x="212" y="507"/>
                </a:cubicBezTo>
                <a:cubicBezTo>
                  <a:pt x="299" y="661"/>
                  <a:pt x="347" y="799"/>
                  <a:pt x="521" y="925"/>
                </a:cubicBezTo>
                <a:cubicBezTo>
                  <a:pt x="695" y="1051"/>
                  <a:pt x="1031" y="1199"/>
                  <a:pt x="1255" y="1261"/>
                </a:cubicBezTo>
                <a:cubicBezTo>
                  <a:pt x="1479" y="1323"/>
                  <a:pt x="1608" y="1315"/>
                  <a:pt x="1865" y="1296"/>
                </a:cubicBezTo>
                <a:cubicBezTo>
                  <a:pt x="2122" y="1277"/>
                  <a:pt x="2459" y="1211"/>
                  <a:pt x="2797" y="1145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87880" y="2481120"/>
            <a:ext cx="4822560" cy="3364200"/>
            <a:chOff x="3287880" y="2481120"/>
            <a:chExt cx="4822560" cy="3364200"/>
          </a:xfrm>
        </p:grpSpPr>
        <p:sp>
          <p:nvSpPr>
            <p:cNvPr id="400" name=""/>
            <p:cNvSpPr/>
            <p:nvPr/>
          </p:nvSpPr>
          <p:spPr>
            <a:xfrm>
              <a:off x="3287880" y="2536920"/>
              <a:ext cx="4060800" cy="330840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87880" y="2481120"/>
              <a:ext cx="4822560" cy="183996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348160" y="4187880"/>
            <a:ext cx="131760" cy="13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000"/>
                            </p:stCondLst>
                            <p:childTnLst>
                              <p:par>
                                <p:cTn id="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sconce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52120" y="1207800"/>
            <a:ext cx="708660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Not the Highest Pric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otal, Not Unit, Profi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ossibility of Losse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57480" y="70164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Concerning Monopoly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1627" r="804" b="0"/>
          <a:stretch/>
        </p:blipFill>
        <p:spPr>
          <a:xfrm>
            <a:off x="4821120" y="3666960"/>
            <a:ext cx="27529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938320" y="1654200"/>
            <a:ext cx="5443560" cy="41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949480" y="3071880"/>
            <a:ext cx="2449440" cy="22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ss Minimiz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70120" y="573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057400" y="1662120"/>
            <a:ext cx="6330960" cy="4733280"/>
            <a:chOff x="2057400" y="1662120"/>
            <a:chExt cx="6330960" cy="4733280"/>
          </a:xfrm>
        </p:grpSpPr>
        <p:sp>
          <p:nvSpPr>
            <p:cNvPr id="412" name=""/>
            <p:cNvSpPr/>
            <p:nvPr/>
          </p:nvSpPr>
          <p:spPr>
            <a:xfrm rot="16200000">
              <a:off x="862920" y="3275280"/>
              <a:ext cx="27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rice, Costs, and 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944800" y="1662120"/>
              <a:ext cx="5443560" cy="4134960"/>
              <a:chOff x="2944800" y="1662120"/>
              <a:chExt cx="5443560" cy="4134960"/>
            </a:xfrm>
          </p:grpSpPr>
          <p:sp>
            <p:nvSpPr>
              <p:cNvPr id="414" name=""/>
              <p:cNvSpPr/>
              <p:nvPr/>
            </p:nvSpPr>
            <p:spPr>
              <a:xfrm>
                <a:off x="2944800" y="1662120"/>
                <a:ext cx="5443560" cy="41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446640" y="1665000"/>
                <a:ext cx="3949560" cy="4123440"/>
                <a:chOff x="3446640" y="1665000"/>
                <a:chExt cx="3949560" cy="4123440"/>
              </a:xfrm>
            </p:grpSpPr>
            <p:sp>
              <p:nvSpPr>
                <p:cNvPr id="416" name=""/>
                <p:cNvSpPr/>
                <p:nvPr/>
              </p:nvSpPr>
              <p:spPr>
                <a:xfrm flipV="1">
                  <a:off x="34466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442908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49230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393876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541008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59054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40404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68994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396200" y="1665000"/>
                  <a:ext cx="0" cy="41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946600" y="2171520"/>
                <a:ext cx="5441400" cy="3082320"/>
                <a:chOff x="2946600" y="2171520"/>
                <a:chExt cx="5441400" cy="30823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946600" y="268560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946600" y="320436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46600" y="217152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946600" y="423792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46600" y="474588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946600" y="372348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46600" y="5253840"/>
                  <a:ext cx="544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 flipV="1">
                <a:off x="7893000" y="1672920"/>
                <a:ext cx="0" cy="41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4993920" y="605808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919600" y="70488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By A Pure Monopo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55000" y="4189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74200" y="52308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48360" y="2805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12400" y="21686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3160" y="462744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=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3081240"/>
            <a:ext cx="0" cy="27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949120" y="3076560"/>
            <a:ext cx="246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46240" y="3295800"/>
            <a:ext cx="246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095800" y="4357440"/>
            <a:ext cx="27324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70880" y="3046320"/>
            <a:ext cx="59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49640" y="1784520"/>
            <a:ext cx="3951360" cy="1685880"/>
          </a:xfrm>
          <a:custGeom>
            <a:avLst/>
            <a:gdLst/>
            <a:ahLst/>
            <a:rect l="l" t="t" r="r" b="b"/>
            <a:pathLst>
              <a:path w="2489" h="952">
                <a:moveTo>
                  <a:pt x="0" y="0"/>
                </a:moveTo>
                <a:cubicBezTo>
                  <a:pt x="95" y="93"/>
                  <a:pt x="348" y="408"/>
                  <a:pt x="564" y="557"/>
                </a:cubicBezTo>
                <a:cubicBezTo>
                  <a:pt x="780" y="706"/>
                  <a:pt x="1072" y="834"/>
                  <a:pt x="1298" y="893"/>
                </a:cubicBezTo>
                <a:cubicBezTo>
                  <a:pt x="1524" y="952"/>
                  <a:pt x="1724" y="939"/>
                  <a:pt x="1922" y="914"/>
                </a:cubicBezTo>
                <a:cubicBezTo>
                  <a:pt x="2120" y="889"/>
                  <a:pt x="2371" y="777"/>
                  <a:pt x="2489" y="741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287880" y="2481120"/>
            <a:ext cx="4822560" cy="3364200"/>
            <a:chOff x="3287880" y="2481120"/>
            <a:chExt cx="4822560" cy="3364200"/>
          </a:xfrm>
        </p:grpSpPr>
        <p:sp>
          <p:nvSpPr>
            <p:cNvPr id="448" name=""/>
            <p:cNvSpPr/>
            <p:nvPr/>
          </p:nvSpPr>
          <p:spPr>
            <a:xfrm>
              <a:off x="3287880" y="2536920"/>
              <a:ext cx="4060800" cy="330840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87880" y="2481120"/>
              <a:ext cx="4822560" cy="183996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016520" y="2457360"/>
            <a:ext cx="3592440" cy="2278080"/>
          </a:xfrm>
          <a:custGeom>
            <a:avLst/>
            <a:gdLst/>
            <a:ahLst/>
            <a:rect l="l" t="t" r="r" b="b"/>
            <a:pathLst>
              <a:path w="2263" h="1435">
                <a:moveTo>
                  <a:pt x="0" y="1435"/>
                </a:moveTo>
                <a:cubicBezTo>
                  <a:pt x="43" y="1424"/>
                  <a:pt x="104" y="1425"/>
                  <a:pt x="254" y="1373"/>
                </a:cubicBezTo>
                <a:cubicBezTo>
                  <a:pt x="404" y="1321"/>
                  <a:pt x="695" y="1223"/>
                  <a:pt x="898" y="1125"/>
                </a:cubicBezTo>
                <a:cubicBezTo>
                  <a:pt x="1101" y="1027"/>
                  <a:pt x="1247" y="969"/>
                  <a:pt x="1474" y="782"/>
                </a:cubicBezTo>
                <a:cubicBezTo>
                  <a:pt x="1701" y="595"/>
                  <a:pt x="1984" y="300"/>
                  <a:pt x="2263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22440" y="3379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48160" y="4187880"/>
            <a:ext cx="131760" cy="13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13520" y="315108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03800" y="5759280"/>
            <a:ext cx="41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943000" y="4037040"/>
            <a:ext cx="246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78360" y="3700440"/>
            <a:ext cx="4137120" cy="382680"/>
          </a:xfrm>
          <a:custGeom>
            <a:avLst/>
            <a:gdLst/>
            <a:ahLst/>
            <a:rect l="l" t="t" r="r" b="b"/>
            <a:pathLst>
              <a:path w="2606" h="241">
                <a:moveTo>
                  <a:pt x="0" y="28"/>
                </a:moveTo>
                <a:cubicBezTo>
                  <a:pt x="300" y="106"/>
                  <a:pt x="600" y="185"/>
                  <a:pt x="830" y="213"/>
                </a:cubicBezTo>
                <a:cubicBezTo>
                  <a:pt x="1060" y="241"/>
                  <a:pt x="1201" y="213"/>
                  <a:pt x="1379" y="199"/>
                </a:cubicBezTo>
                <a:cubicBezTo>
                  <a:pt x="1557" y="185"/>
                  <a:pt x="1696" y="163"/>
                  <a:pt x="1900" y="130"/>
                </a:cubicBezTo>
                <a:cubicBezTo>
                  <a:pt x="2104" y="97"/>
                  <a:pt x="2355" y="48"/>
                  <a:pt x="2606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59240" y="3881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54560" y="2933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6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60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902200" y="2565360"/>
            <a:ext cx="2853000" cy="2427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83360" y="2689200"/>
            <a:ext cx="717480" cy="1501920"/>
          </a:xfrm>
          <a:custGeom>
            <a:avLst/>
            <a:gdLst/>
            <a:ahLst/>
            <a:rect l="l" t="t" r="r" b="b"/>
            <a:pathLst>
              <a:path w="452" h="946">
                <a:moveTo>
                  <a:pt x="0" y="0"/>
                </a:moveTo>
                <a:lnTo>
                  <a:pt x="446" y="946"/>
                </a:lnTo>
                <a:lnTo>
                  <a:pt x="452" y="404"/>
                </a:lnTo>
                <a:lnTo>
                  <a:pt x="0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00840" y="3319560"/>
            <a:ext cx="479520" cy="871560"/>
          </a:xfrm>
          <a:custGeom>
            <a:avLst/>
            <a:gdLst/>
            <a:ahLst/>
            <a:rect l="l" t="t" r="r" b="b"/>
            <a:pathLst>
              <a:path w="302" h="549">
                <a:moveTo>
                  <a:pt x="1" y="549"/>
                </a:moveTo>
                <a:lnTo>
                  <a:pt x="179" y="419"/>
                </a:lnTo>
                <a:lnTo>
                  <a:pt x="302" y="282"/>
                </a:lnTo>
                <a:lnTo>
                  <a:pt x="0" y="0"/>
                </a:lnTo>
                <a:lnTo>
                  <a:pt x="1" y="54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52120" y="87120"/>
            <a:ext cx="7086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conomic Effects of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819440" y="1190520"/>
            <a:ext cx="71848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0033"/>
                </a:solidFill>
                <a:latin typeface="Arial"/>
              </a:rPr>
              <a:t>Price, Output, and Efficiency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49360" y="2568600"/>
            <a:ext cx="2853000" cy="242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57440" y="2662200"/>
            <a:ext cx="2057400" cy="19209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19520" y="3056040"/>
            <a:ext cx="1490400" cy="1404720"/>
          </a:xfrm>
          <a:custGeom>
            <a:avLst/>
            <a:gdLst/>
            <a:ahLst/>
            <a:rect l="l" t="t" r="r" b="b"/>
            <a:pathLst>
              <a:path w="822" h="706">
                <a:moveTo>
                  <a:pt x="0" y="706"/>
                </a:moveTo>
                <a:cubicBezTo>
                  <a:pt x="150" y="624"/>
                  <a:pt x="301" y="543"/>
                  <a:pt x="438" y="425"/>
                </a:cubicBezTo>
                <a:cubicBezTo>
                  <a:pt x="575" y="307"/>
                  <a:pt x="698" y="153"/>
                  <a:pt x="822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32280" y="1824120"/>
            <a:ext cx="1488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98160" y="1820880"/>
            <a:ext cx="126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64280" y="2646360"/>
            <a:ext cx="2058840" cy="19224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61280" y="3056040"/>
            <a:ext cx="1490400" cy="1404720"/>
          </a:xfrm>
          <a:custGeom>
            <a:avLst/>
            <a:gdLst/>
            <a:ahLst/>
            <a:rect l="l" t="t" r="r" b="b"/>
            <a:pathLst>
              <a:path w="822" h="706">
                <a:moveTo>
                  <a:pt x="0" y="706"/>
                </a:moveTo>
                <a:cubicBezTo>
                  <a:pt x="150" y="624"/>
                  <a:pt x="301" y="543"/>
                  <a:pt x="438" y="425"/>
                </a:cubicBezTo>
                <a:cubicBezTo>
                  <a:pt x="575" y="307"/>
                  <a:pt x="698" y="153"/>
                  <a:pt x="822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40520" y="2657520"/>
            <a:ext cx="1098360" cy="220824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81360" y="4471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90000" y="4479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34080" y="276876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920360" y="28432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81760" y="3416400"/>
            <a:ext cx="96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MC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61640" y="46958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69200" y="3787920"/>
            <a:ext cx="0" cy="12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9400" y="3348000"/>
            <a:ext cx="0" cy="16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43280" y="3784680"/>
            <a:ext cx="0" cy="12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351160" y="3776760"/>
            <a:ext cx="14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904000" y="3773520"/>
            <a:ext cx="144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900760" y="3325680"/>
            <a:ext cx="10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92520" y="371628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14200" y="36162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55360" y="495468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67040" y="36133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6320" y="316548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74800" y="495468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99240" y="4954680"/>
            <a:ext cx="41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4129200"/>
            <a:ext cx="119160" cy="11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13760" y="3716280"/>
            <a:ext cx="11880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40360" y="3270240"/>
            <a:ext cx="119160" cy="119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28600" y="5278320"/>
            <a:ext cx="61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ure Competition is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opoly Price is Greater Than 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 Is Therefore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863520" y="3745080"/>
            <a:ext cx="358920" cy="2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8120" y="4037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7200" y="31226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22840" y="3597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0"/>
                            </p:stCondLst>
                            <p:childTnLst>
                              <p:par>
                                <p:cTn id="9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6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52120" y="87120"/>
            <a:ext cx="7086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conomic Effects of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819440" y="1212480"/>
            <a:ext cx="718488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0033"/>
                </a:solidFill>
                <a:latin typeface="Arial"/>
              </a:rPr>
              <a:t>Price, Output, and Efficiency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Income Transfer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Cost Complications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Economies of Scale 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Simultaneous Consumption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Network Effect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rcRect l="0" t="0" r="1781" b="0"/>
          <a:stretch/>
        </p:blipFill>
        <p:spPr>
          <a:xfrm>
            <a:off x="5730840" y="3911760"/>
            <a:ext cx="29750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819440" y="1212840"/>
            <a:ext cx="718488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47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X-Inefficiency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47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Rent-Seeking Expenditures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Rent-Seeking Behavior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47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Technological Advance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47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Assessment and Policy Options</a:t>
            </a:r>
            <a:endParaRPr b="1" lang="en-US" sz="38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974960" y="1717200"/>
            <a:ext cx="6414840" cy="2355120"/>
            <a:chOff x="1974960" y="1717200"/>
            <a:chExt cx="6414840" cy="2355120"/>
          </a:xfrm>
        </p:grpSpPr>
        <p:sp>
          <p:nvSpPr>
            <p:cNvPr id="504" name=""/>
            <p:cNvSpPr/>
            <p:nvPr/>
          </p:nvSpPr>
          <p:spPr>
            <a:xfrm>
              <a:off x="2849400" y="1848240"/>
              <a:ext cx="5540400" cy="1838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71760" y="2248560"/>
              <a:ext cx="4713480" cy="1093680"/>
            </a:xfrm>
            <a:custGeom>
              <a:avLst/>
              <a:gdLst/>
              <a:ahLst/>
              <a:rect l="l" t="t" r="r" b="b"/>
              <a:pathLst>
                <a:path w="2969" h="771">
                  <a:moveTo>
                    <a:pt x="0" y="0"/>
                  </a:moveTo>
                  <a:cubicBezTo>
                    <a:pt x="160" y="142"/>
                    <a:pt x="312" y="272"/>
                    <a:pt x="542" y="390"/>
                  </a:cubicBezTo>
                  <a:cubicBezTo>
                    <a:pt x="772" y="508"/>
                    <a:pt x="1112" y="645"/>
                    <a:pt x="1378" y="706"/>
                  </a:cubicBezTo>
                  <a:cubicBezTo>
                    <a:pt x="1644" y="767"/>
                    <a:pt x="1930" y="771"/>
                    <a:pt x="2139" y="754"/>
                  </a:cubicBezTo>
                  <a:cubicBezTo>
                    <a:pt x="2348" y="737"/>
                    <a:pt x="2495" y="667"/>
                    <a:pt x="2633" y="603"/>
                  </a:cubicBezTo>
                  <a:cubicBezTo>
                    <a:pt x="2771" y="539"/>
                    <a:pt x="2899" y="419"/>
                    <a:pt x="2969" y="370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52680" y="2235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93840" y="28144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852280" y="2394720"/>
              <a:ext cx="1327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849040" y="276912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846160" y="3044160"/>
              <a:ext cx="375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842920" y="3339720"/>
              <a:ext cx="375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72040" y="2392920"/>
              <a:ext cx="0" cy="129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13560" y="3051720"/>
              <a:ext cx="0" cy="63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02200" y="2333520"/>
              <a:ext cx="142920" cy="127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43720" y="2976480"/>
              <a:ext cx="142920" cy="127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176840" y="2514960"/>
              <a:ext cx="190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verage Total Co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68000" y="2250000"/>
              <a:ext cx="613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73400" y="2624400"/>
              <a:ext cx="60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53600" y="289980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X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73400" y="3195000"/>
              <a:ext cx="60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55480" y="376524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0880" y="363888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22400" y="363888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54000" y="23378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752120" y="87120"/>
            <a:ext cx="7086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conomic Effects of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8146440" y="1150920"/>
            <a:ext cx="717120" cy="694440"/>
            <a:chOff x="8146440" y="1150920"/>
            <a:chExt cx="717120" cy="694440"/>
          </a:xfrm>
        </p:grpSpPr>
        <p:pic>
          <p:nvPicPr>
            <p:cNvPr id="52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98000" y="11509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>
              <a:hlinkClick r:id="rId3"/>
            </p:cNvPr>
            <p:cNvSpPr/>
            <p:nvPr/>
          </p:nvSpPr>
          <p:spPr>
            <a:xfrm>
              <a:off x="8146440" y="15382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2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indefinite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indefinite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806480" y="2602080"/>
            <a:ext cx="6880320" cy="380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752120" y="1736640"/>
            <a:ext cx="7086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Representative Highly Competitive Foreign Multinational Corporations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338560" y="1098720"/>
            <a:ext cx="5943600" cy="761760"/>
            <a:chOff x="2338560" y="1098720"/>
            <a:chExt cx="5943600" cy="761760"/>
          </a:xfrm>
        </p:grpSpPr>
        <p:sp>
          <p:nvSpPr>
            <p:cNvPr id="532" name=""/>
            <p:cNvSpPr/>
            <p:nvPr/>
          </p:nvSpPr>
          <p:spPr>
            <a:xfrm>
              <a:off x="3170520" y="1263600"/>
              <a:ext cx="5111640" cy="4312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LOBAL PERSPEC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2338560" y="1098720"/>
              <a:ext cx="7603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1752120" y="87120"/>
            <a:ext cx="7086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conomic Effects of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13560" y="256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mpany (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42680" y="25621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ai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79560" y="2924280"/>
            <a:ext cx="405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er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P Amoco (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elin (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C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witzer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kia (Fin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yal Dutch/Shell (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yal Philips (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y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yota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lever (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91080" y="2921040"/>
            <a:ext cx="221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less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ob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81000" y="637704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Fortun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0960" y="8748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ice Discrimin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52120" y="817200"/>
            <a:ext cx="70866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Three Form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rging Each Customer the Maximum They Are Willing to Pa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rging Each Customer One Price For The First Set of Units Purchased and a Lower Price for Subsequent Unit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rging Some Customers One Price and a Different Price for Other Customers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146440" y="762120"/>
            <a:ext cx="717120" cy="694440"/>
            <a:chOff x="8146440" y="762120"/>
            <a:chExt cx="717120" cy="694440"/>
          </a:xfrm>
        </p:grpSpPr>
        <p:pic>
          <p:nvPicPr>
            <p:cNvPr id="54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98000" y="7621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>
              <a:hlinkClick r:id="rId3"/>
            </p:cNvPr>
            <p:cNvSpPr/>
            <p:nvPr/>
          </p:nvSpPr>
          <p:spPr>
            <a:xfrm>
              <a:off x="8146440" y="1149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2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40960" y="8748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ice Discrimin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52120" y="717120"/>
            <a:ext cx="70866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Conditions 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onopoly Power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ket Segregatio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No Resa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xamples of Price Discrimination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irfar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lectric Utiliti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9900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Theaters &amp; Golf Cours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105760" y="5821200"/>
            <a:ext cx="746280" cy="710280"/>
            <a:chOff x="8105760" y="5821200"/>
            <a:chExt cx="746280" cy="710280"/>
          </a:xfrm>
        </p:grpSpPr>
        <p:pic>
          <p:nvPicPr>
            <p:cNvPr id="54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194680" y="58212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>
              <a:hlinkClick r:id="rId3"/>
            </p:cNvPr>
            <p:cNvSpPr/>
            <p:nvPr/>
          </p:nvSpPr>
          <p:spPr>
            <a:xfrm>
              <a:off x="8105760" y="62244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2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indefinite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968040"/>
            <a:ext cx="70866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racteristics of Pure Monopol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How Pure Monopoly Sets Profit Maximizing Output and Pric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Economic Effects of Monopol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Why A Monopolist May Wish to Charge Different Prices in Different Market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44120" y="76320"/>
            <a:ext cx="732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gulated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752480" y="945720"/>
            <a:ext cx="7174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Natural Monopolie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Rate Regulation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ocially Optimum Pric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 = MC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Fair Return Pric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 = ATC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10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1986120" y="1971720"/>
            <a:ext cx="6422760" cy="4310640"/>
            <a:chOff x="1986120" y="1971720"/>
            <a:chExt cx="6422760" cy="4310640"/>
          </a:xfrm>
        </p:grpSpPr>
        <p:sp>
          <p:nvSpPr>
            <p:cNvPr id="553" name=""/>
            <p:cNvSpPr/>
            <p:nvPr/>
          </p:nvSpPr>
          <p:spPr>
            <a:xfrm>
              <a:off x="2803680" y="1971720"/>
              <a:ext cx="5605200" cy="3767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62120" y="5654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6200000">
              <a:off x="859680" y="3858120"/>
              <a:ext cx="25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and Cost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65120" y="594504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4120" y="76320"/>
            <a:ext cx="732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gulated Monopo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90880" y="754200"/>
            <a:ext cx="56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Dilemma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797200" y="2220840"/>
            <a:ext cx="4975200" cy="3363840"/>
            <a:chOff x="2797200" y="2220840"/>
            <a:chExt cx="4975200" cy="3363840"/>
          </a:xfrm>
        </p:grpSpPr>
        <p:sp>
          <p:nvSpPr>
            <p:cNvPr id="560" name=""/>
            <p:cNvSpPr/>
            <p:nvPr/>
          </p:nvSpPr>
          <p:spPr>
            <a:xfrm>
              <a:off x="2808360" y="2220840"/>
              <a:ext cx="1806480" cy="3363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97200" y="2220840"/>
              <a:ext cx="4975200" cy="313524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102120" y="4194000"/>
            <a:ext cx="5040000" cy="797040"/>
          </a:xfrm>
          <a:custGeom>
            <a:avLst/>
            <a:gdLst/>
            <a:ahLst/>
            <a:rect l="l" t="t" r="r" b="b"/>
            <a:pathLst>
              <a:path w="3188" h="653">
                <a:moveTo>
                  <a:pt x="0" y="0"/>
                </a:moveTo>
                <a:cubicBezTo>
                  <a:pt x="184" y="61"/>
                  <a:pt x="712" y="266"/>
                  <a:pt x="1104" y="368"/>
                </a:cubicBezTo>
                <a:cubicBezTo>
                  <a:pt x="1496" y="470"/>
                  <a:pt x="2005" y="573"/>
                  <a:pt x="2352" y="611"/>
                </a:cubicBezTo>
                <a:cubicBezTo>
                  <a:pt x="2699" y="649"/>
                  <a:pt x="3035" y="653"/>
                  <a:pt x="3188" y="597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51280" y="2917800"/>
            <a:ext cx="5148000" cy="1716120"/>
          </a:xfrm>
          <a:custGeom>
            <a:avLst/>
            <a:gdLst/>
            <a:ahLst/>
            <a:rect l="l" t="t" r="r" b="b"/>
            <a:pathLst>
              <a:path w="3127" h="1013">
                <a:moveTo>
                  <a:pt x="0" y="0"/>
                </a:moveTo>
                <a:cubicBezTo>
                  <a:pt x="127" y="63"/>
                  <a:pt x="456" y="249"/>
                  <a:pt x="761" y="377"/>
                </a:cubicBezTo>
                <a:cubicBezTo>
                  <a:pt x="1066" y="505"/>
                  <a:pt x="1521" y="668"/>
                  <a:pt x="1831" y="768"/>
                </a:cubicBezTo>
                <a:cubicBezTo>
                  <a:pt x="2141" y="868"/>
                  <a:pt x="2403" y="935"/>
                  <a:pt x="2619" y="974"/>
                </a:cubicBezTo>
                <a:cubicBezTo>
                  <a:pt x="2835" y="1013"/>
                  <a:pt x="2981" y="1007"/>
                  <a:pt x="3127" y="1001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16520" y="2949480"/>
            <a:ext cx="0" cy="278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79960" y="4202280"/>
            <a:ext cx="0" cy="15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155000" y="4952880"/>
            <a:ext cx="0" cy="78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796840" y="49579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796840" y="4210200"/>
            <a:ext cx="315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797200" y="2984400"/>
            <a:ext cx="11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11920" y="41482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86600" y="488952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0200" y="2908440"/>
            <a:ext cx="14112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40200" y="43894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53240" y="2185920"/>
            <a:ext cx="1262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029560" y="2982960"/>
            <a:ext cx="1412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-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37120" y="364644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28200" y="4795920"/>
            <a:ext cx="339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734240" y="5221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97600" y="49006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60880" y="3930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35680" y="54831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43200" y="4135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24240" y="4059360"/>
            <a:ext cx="33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24600" y="283356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10240" y="5713560"/>
            <a:ext cx="41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792400" y="5713560"/>
            <a:ext cx="35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68160" y="571356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114440" y="2720880"/>
            <a:ext cx="446040" cy="185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757840" y="3516480"/>
            <a:ext cx="208080" cy="59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196040" y="4419720"/>
            <a:ext cx="130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97560" y="53182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883640" y="4903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24600" y="43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 Beers Diamond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1615680"/>
            <a:ext cx="7086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66 Year Policy of Monopolizing the Diamond Trad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id-2000 Abandoned Monopoly Effort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ecline in Number of Select Dealers and Cutter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assic Monopoly Behavio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ricin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ngle-Channel Marketin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70720" y="714240"/>
            <a:ext cx="56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Are Monopolies For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 Beers Diamond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752480" y="1398240"/>
            <a:ext cx="71740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nd of an Er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w Diamond Discoveries-Angola, Canad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ustralian Producer Withdr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Bad Press and Public Perception Over Civil Strife Financing Ro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Becoming Cartel of Specialized High-End Diamond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onopoly Didn’t Last Forever!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70720" y="714240"/>
            <a:ext cx="56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Are Monopolies For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10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1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10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10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25480" y="828720"/>
            <a:ext cx="7108920" cy="5692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690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ure monopol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barriers to entr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multaneous consump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etwork effec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X-inefficienc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nt-seeking behavio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rice discrimin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ocially optimal pri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air-return pri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0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419720" y="421308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23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7" name=""/>
          <p:cNvSpPr/>
          <p:nvPr/>
        </p:nvSpPr>
        <p:spPr>
          <a:xfrm>
            <a:off x="1871640" y="2122560"/>
            <a:ext cx="64803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Oligopo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874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768240"/>
            <a:ext cx="6573960" cy="58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ingle Seller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No Close Substitut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rice Maker”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locked Entr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Nonprice Competitio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gulated Monopoli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ar-Monopoli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Western Union-Frisbee-De Beer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ual Objectives of Stud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146440" y="3006720"/>
            <a:ext cx="717120" cy="694440"/>
            <a:chOff x="8146440" y="3006720"/>
            <a:chExt cx="717120" cy="694440"/>
          </a:xfrm>
        </p:grpSpPr>
        <p:pic>
          <p:nvPicPr>
            <p:cNvPr id="6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98000" y="30067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>
              <a:hlinkClick r:id="rId3"/>
            </p:cNvPr>
            <p:cNvSpPr/>
            <p:nvPr/>
          </p:nvSpPr>
          <p:spPr>
            <a:xfrm>
              <a:off x="8146440" y="33940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2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rriers to Entr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879120"/>
            <a:ext cx="7086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conomies of Sca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Legal Barriers to Entr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atent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cens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Ownership or Control of Essential Resourc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ricing and Other Strategic Barriers to Entr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112960" y="1039680"/>
            <a:ext cx="717120" cy="694440"/>
            <a:chOff x="8112960" y="1039680"/>
            <a:chExt cx="717120" cy="694440"/>
          </a:xfrm>
        </p:grpSpPr>
        <p:pic>
          <p:nvPicPr>
            <p:cNvPr id="7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64520" y="103968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>
              <a:hlinkClick r:id="rId3"/>
            </p:cNvPr>
            <p:cNvSpPr/>
            <p:nvPr/>
          </p:nvSpPr>
          <p:spPr>
            <a:xfrm>
              <a:off x="8112960" y="14270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opoly Deman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990720"/>
            <a:ext cx="718848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onopoly Status is Secure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No Governmental Regulation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Firm is a Single-Price Monopolist (No Price Discrimination)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124520" y="1717560"/>
            <a:ext cx="4518000" cy="4145760"/>
            <a:chOff x="4124520" y="1717560"/>
            <a:chExt cx="4518000" cy="4145760"/>
          </a:xfrm>
        </p:grpSpPr>
        <p:sp>
          <p:nvSpPr>
            <p:cNvPr id="76" name=""/>
            <p:cNvSpPr/>
            <p:nvPr/>
          </p:nvSpPr>
          <p:spPr>
            <a:xfrm>
              <a:off x="4638600" y="1717560"/>
              <a:ext cx="4003920" cy="3880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586560" y="3363480"/>
              <a:ext cx="104760" cy="39877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4840" y="5549760"/>
              <a:ext cx="3857760" cy="313560"/>
              <a:chOff x="4344840" y="5549760"/>
              <a:chExt cx="3857760" cy="313560"/>
            </a:xfrm>
          </p:grpSpPr>
          <p:sp>
            <p:nvSpPr>
              <p:cNvPr id="79" name=""/>
              <p:cNvSpPr/>
              <p:nvPr/>
            </p:nvSpPr>
            <p:spPr>
              <a:xfrm>
                <a:off x="4344840" y="5556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4972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242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22116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960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594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28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24520" y="2284560"/>
              <a:ext cx="577080" cy="2335680"/>
              <a:chOff x="4124520" y="2284560"/>
              <a:chExt cx="577080" cy="2335680"/>
            </a:xfrm>
          </p:grpSpPr>
          <p:sp>
            <p:nvSpPr>
              <p:cNvPr id="87" name=""/>
              <p:cNvSpPr/>
              <p:nvPr/>
            </p:nvSpPr>
            <p:spPr>
              <a:xfrm>
                <a:off x="4124520" y="228456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223520" y="26146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23520" y="29368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23520" y="3289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23520" y="3630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22160" y="3983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22160" y="431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6356520" y="2778120"/>
            <a:ext cx="583920" cy="281772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84440" y="75960"/>
            <a:ext cx="73562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ice and Marginal Revenu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22240" y="730080"/>
            <a:ext cx="7105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990033"/>
                </a:solidFill>
                <a:latin typeface="Arial"/>
              </a:rPr>
              <a:t>Marginal Revenue is Less Than Pr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7240" y="1851120"/>
            <a:ext cx="3122640" cy="18176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38600" y="2438280"/>
            <a:ext cx="1728720" cy="338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37160" y="2449440"/>
            <a:ext cx="172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36800" y="2779560"/>
            <a:ext cx="22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6520" y="2435400"/>
            <a:ext cx="0" cy="31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3400" y="2751120"/>
            <a:ext cx="0" cy="28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36844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97600" y="270972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70640" y="325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2120" y="1325520"/>
            <a:ext cx="302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 Monopol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Selling 3 Units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$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To Sell More (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Price Mus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Lowered to $1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ll 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ust P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TR Increases $1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inus $30 (3x$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30160" y="382572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n = $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05360" y="4148280"/>
            <a:ext cx="826920" cy="172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25440" y="32004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s = 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291280" y="2568240"/>
            <a:ext cx="195120" cy="63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indefinit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124520" y="1717560"/>
            <a:ext cx="4518000" cy="4145760"/>
            <a:chOff x="4124520" y="1717560"/>
            <a:chExt cx="4518000" cy="4145760"/>
          </a:xfrm>
        </p:grpSpPr>
        <p:sp>
          <p:nvSpPr>
            <p:cNvPr id="112" name=""/>
            <p:cNvSpPr/>
            <p:nvPr/>
          </p:nvSpPr>
          <p:spPr>
            <a:xfrm>
              <a:off x="4638600" y="1717560"/>
              <a:ext cx="4003920" cy="3880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586560" y="3363480"/>
              <a:ext cx="104760" cy="39877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344840" y="5549760"/>
              <a:ext cx="3857760" cy="313560"/>
              <a:chOff x="4344840" y="5549760"/>
              <a:chExt cx="3857760" cy="313560"/>
            </a:xfrm>
          </p:grpSpPr>
          <p:sp>
            <p:nvSpPr>
              <p:cNvPr id="115" name=""/>
              <p:cNvSpPr/>
              <p:nvPr/>
            </p:nvSpPr>
            <p:spPr>
              <a:xfrm>
                <a:off x="4344840" y="5556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972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242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2116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960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594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22880" y="5549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124520" y="2284560"/>
              <a:ext cx="577080" cy="2335680"/>
              <a:chOff x="4124520" y="2284560"/>
              <a:chExt cx="577080" cy="2335680"/>
            </a:xfrm>
          </p:grpSpPr>
          <p:sp>
            <p:nvSpPr>
              <p:cNvPr id="123" name=""/>
              <p:cNvSpPr/>
              <p:nvPr/>
            </p:nvSpPr>
            <p:spPr>
              <a:xfrm>
                <a:off x="4124520" y="228456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23520" y="26146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23520" y="29368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23520" y="3289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23520" y="3630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22160" y="3983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22160" y="431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6356520" y="2778120"/>
            <a:ext cx="583920" cy="281772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4440" y="75960"/>
            <a:ext cx="73562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ice and Marginal Revenu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22240" y="730080"/>
            <a:ext cx="7105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990033"/>
                </a:solidFill>
                <a:latin typeface="Arial"/>
              </a:rPr>
              <a:t>Marginal Revenue is Less Than Pr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7240" y="1851120"/>
            <a:ext cx="3122640" cy="18176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8600" y="2438280"/>
            <a:ext cx="1728720" cy="338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37160" y="2449440"/>
            <a:ext cx="172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36800" y="2779560"/>
            <a:ext cx="22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56520" y="2435400"/>
            <a:ext cx="0" cy="31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3400" y="2751120"/>
            <a:ext cx="0" cy="28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236844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97600" y="270972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70640" y="325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82120" y="1325520"/>
            <a:ext cx="3022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A Monopol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Selling 3 Units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$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To Sell More (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rice Mus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Lowered to $1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All 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Must P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TR Increases $1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Minus $30 (3x$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$102 Become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Point on the M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Try Other Pric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Determine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30160" y="382572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n = $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05360" y="4148280"/>
            <a:ext cx="826920" cy="172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25440" y="32004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s = 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291280" y="2568240"/>
            <a:ext cx="195120" cy="63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94480" y="2276640"/>
            <a:ext cx="2273040" cy="276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83560" y="3728880"/>
            <a:ext cx="118800" cy="119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35800" y="4403880"/>
            <a:ext cx="119160" cy="118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99280" y="3033720"/>
            <a:ext cx="119160" cy="119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15440" y="5932440"/>
            <a:ext cx="5735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e Constructed Marginal Revenue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ust Always Be Less Than the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40880" y="4854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indefinite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indefinite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05120" y="4255920"/>
            <a:ext cx="691200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30520" y="1789200"/>
            <a:ext cx="7108560" cy="102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79320" y="75960"/>
            <a:ext cx="7467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nopoly Revenue and Cos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120" y="779400"/>
            <a:ext cx="7086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Revenue and Cost Data of a Pure Monopolis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68600" y="2200320"/>
            <a:ext cx="948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f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36560" y="2031840"/>
            <a:ext cx="9212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ve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n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72560" y="2031840"/>
            <a:ext cx="8665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31520" y="2200320"/>
            <a:ext cx="8665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8160" y="2200320"/>
            <a:ext cx="9853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01000" y="2200320"/>
            <a:ext cx="9853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) X (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01360" y="2200320"/>
            <a:ext cx="8575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440" y="2200320"/>
            <a:ext cx="9853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 Loss (-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26360" y="28288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53920" y="282888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25200" y="282888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0800" y="2946240"/>
            <a:ext cx="68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49520" y="3110040"/>
            <a:ext cx="10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49680" y="282888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84240" y="2940120"/>
            <a:ext cx="56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95600" y="28288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53720" y="17892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67480" y="178596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82800" y="2048040"/>
            <a:ext cx="6840360" cy="2880"/>
            <a:chOff x="1882800" y="2048040"/>
            <a:chExt cx="6840360" cy="2880"/>
          </a:xfrm>
        </p:grpSpPr>
        <p:sp>
          <p:nvSpPr>
            <p:cNvPr id="176" name=""/>
            <p:cNvSpPr/>
            <p:nvPr/>
          </p:nvSpPr>
          <p:spPr>
            <a:xfrm>
              <a:off x="1882800" y="2050920"/>
              <a:ext cx="329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4480" y="2048040"/>
              <a:ext cx="329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063320" y="2908440"/>
            <a:ext cx="406800" cy="2870280"/>
            <a:chOff x="4063320" y="2908440"/>
            <a:chExt cx="406800" cy="2870280"/>
          </a:xfrm>
        </p:grpSpPr>
        <p:grpSp>
          <p:nvGrpSpPr>
            <p:cNvPr id="179" name=""/>
            <p:cNvGrpSpPr/>
            <p:nvPr/>
          </p:nvGrpSpPr>
          <p:grpSpPr>
            <a:xfrm>
              <a:off x="4063320" y="2908440"/>
              <a:ext cx="406800" cy="398880"/>
              <a:chOff x="4063320" y="2908440"/>
              <a:chExt cx="406800" cy="398880"/>
            </a:xfrm>
          </p:grpSpPr>
          <p:sp>
            <p:nvSpPr>
              <p:cNvPr id="180" name=""/>
              <p:cNvSpPr/>
              <p:nvPr/>
            </p:nvSpPr>
            <p:spPr>
              <a:xfrm>
                <a:off x="4063320" y="2908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98680" y="312876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063320" y="3182760"/>
              <a:ext cx="406800" cy="398880"/>
              <a:chOff x="4063320" y="3182760"/>
              <a:chExt cx="406800" cy="39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4063320" y="318276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98680" y="340308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063320" y="3457440"/>
              <a:ext cx="406800" cy="398880"/>
              <a:chOff x="4063320" y="3457440"/>
              <a:chExt cx="406800" cy="398880"/>
            </a:xfrm>
          </p:grpSpPr>
          <p:sp>
            <p:nvSpPr>
              <p:cNvPr id="186" name=""/>
              <p:cNvSpPr/>
              <p:nvPr/>
            </p:nvSpPr>
            <p:spPr>
              <a:xfrm>
                <a:off x="4063320" y="3457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98680" y="367776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063320" y="3732120"/>
              <a:ext cx="406800" cy="398880"/>
              <a:chOff x="4063320" y="3732120"/>
              <a:chExt cx="406800" cy="398880"/>
            </a:xfrm>
          </p:grpSpPr>
          <p:sp>
            <p:nvSpPr>
              <p:cNvPr id="189" name=""/>
              <p:cNvSpPr/>
              <p:nvPr/>
            </p:nvSpPr>
            <p:spPr>
              <a:xfrm>
                <a:off x="4063320" y="37321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98680" y="395208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063320" y="4006800"/>
              <a:ext cx="406800" cy="398880"/>
              <a:chOff x="4063320" y="4006800"/>
              <a:chExt cx="406800" cy="398880"/>
            </a:xfrm>
          </p:grpSpPr>
          <p:sp>
            <p:nvSpPr>
              <p:cNvPr id="192" name=""/>
              <p:cNvSpPr/>
              <p:nvPr/>
            </p:nvSpPr>
            <p:spPr>
              <a:xfrm>
                <a:off x="4063320" y="40068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98680" y="422676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063320" y="4281480"/>
              <a:ext cx="406800" cy="398880"/>
              <a:chOff x="4063320" y="4281480"/>
              <a:chExt cx="406800" cy="398880"/>
            </a:xfrm>
          </p:grpSpPr>
          <p:sp>
            <p:nvSpPr>
              <p:cNvPr id="195" name=""/>
              <p:cNvSpPr/>
              <p:nvPr/>
            </p:nvSpPr>
            <p:spPr>
              <a:xfrm>
                <a:off x="4063320" y="42814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98680" y="450144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063320" y="4556160"/>
              <a:ext cx="406800" cy="398880"/>
              <a:chOff x="4063320" y="4556160"/>
              <a:chExt cx="406800" cy="39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4063320" y="455616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98680" y="477612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063320" y="4830840"/>
              <a:ext cx="406800" cy="398880"/>
              <a:chOff x="4063320" y="4830840"/>
              <a:chExt cx="406800" cy="398880"/>
            </a:xfrm>
          </p:grpSpPr>
          <p:sp>
            <p:nvSpPr>
              <p:cNvPr id="201" name=""/>
              <p:cNvSpPr/>
              <p:nvPr/>
            </p:nvSpPr>
            <p:spPr>
              <a:xfrm>
                <a:off x="4063320" y="48308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98680" y="505080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063320" y="5105160"/>
              <a:ext cx="406800" cy="398880"/>
              <a:chOff x="4063320" y="5105160"/>
              <a:chExt cx="406800" cy="398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063320" y="510516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98680" y="532548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063320" y="5379840"/>
              <a:ext cx="406800" cy="398880"/>
              <a:chOff x="4063320" y="5379840"/>
              <a:chExt cx="406800" cy="398880"/>
            </a:xfrm>
          </p:grpSpPr>
          <p:sp>
            <p:nvSpPr>
              <p:cNvPr id="207" name=""/>
              <p:cNvSpPr/>
              <p:nvPr/>
            </p:nvSpPr>
            <p:spPr>
              <a:xfrm>
                <a:off x="4063320" y="53798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98680" y="560016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916320" y="2905200"/>
            <a:ext cx="406800" cy="2870280"/>
            <a:chOff x="6916320" y="2905200"/>
            <a:chExt cx="406800" cy="2870280"/>
          </a:xfrm>
        </p:grpSpPr>
        <p:grpSp>
          <p:nvGrpSpPr>
            <p:cNvPr id="210" name=""/>
            <p:cNvGrpSpPr/>
            <p:nvPr/>
          </p:nvGrpSpPr>
          <p:grpSpPr>
            <a:xfrm>
              <a:off x="6916320" y="2905200"/>
              <a:ext cx="406800" cy="398880"/>
              <a:chOff x="6916320" y="2905200"/>
              <a:chExt cx="406800" cy="398880"/>
            </a:xfrm>
          </p:grpSpPr>
          <p:sp>
            <p:nvSpPr>
              <p:cNvPr id="211" name=""/>
              <p:cNvSpPr/>
              <p:nvPr/>
            </p:nvSpPr>
            <p:spPr>
              <a:xfrm>
                <a:off x="6916320" y="29052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051680" y="312552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916320" y="3179520"/>
              <a:ext cx="406800" cy="398880"/>
              <a:chOff x="6916320" y="3179520"/>
              <a:chExt cx="406800" cy="398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916320" y="31795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51680" y="339984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916320" y="3454200"/>
              <a:ext cx="406800" cy="398880"/>
              <a:chOff x="6916320" y="3454200"/>
              <a:chExt cx="406800" cy="39888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6320" y="34542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51680" y="367452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916320" y="3728880"/>
              <a:ext cx="406800" cy="398880"/>
              <a:chOff x="6916320" y="3728880"/>
              <a:chExt cx="406800" cy="398880"/>
            </a:xfrm>
          </p:grpSpPr>
          <p:sp>
            <p:nvSpPr>
              <p:cNvPr id="220" name=""/>
              <p:cNvSpPr/>
              <p:nvPr/>
            </p:nvSpPr>
            <p:spPr>
              <a:xfrm>
                <a:off x="6916320" y="37288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51680" y="394884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916320" y="4003560"/>
              <a:ext cx="406800" cy="398880"/>
              <a:chOff x="6916320" y="4003560"/>
              <a:chExt cx="406800" cy="398880"/>
            </a:xfrm>
          </p:grpSpPr>
          <p:sp>
            <p:nvSpPr>
              <p:cNvPr id="223" name=""/>
              <p:cNvSpPr/>
              <p:nvPr/>
            </p:nvSpPr>
            <p:spPr>
              <a:xfrm>
                <a:off x="6916320" y="400356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51680" y="422352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916320" y="4278240"/>
              <a:ext cx="406800" cy="398880"/>
              <a:chOff x="6916320" y="4278240"/>
              <a:chExt cx="406800" cy="398880"/>
            </a:xfrm>
          </p:grpSpPr>
          <p:sp>
            <p:nvSpPr>
              <p:cNvPr id="226" name=""/>
              <p:cNvSpPr/>
              <p:nvPr/>
            </p:nvSpPr>
            <p:spPr>
              <a:xfrm>
                <a:off x="6916320" y="42782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51680" y="449820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916320" y="4552920"/>
              <a:ext cx="406800" cy="398880"/>
              <a:chOff x="6916320" y="4552920"/>
              <a:chExt cx="406800" cy="398880"/>
            </a:xfrm>
          </p:grpSpPr>
          <p:sp>
            <p:nvSpPr>
              <p:cNvPr id="229" name=""/>
              <p:cNvSpPr/>
              <p:nvPr/>
            </p:nvSpPr>
            <p:spPr>
              <a:xfrm>
                <a:off x="6916320" y="45529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51680" y="477288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916320" y="4827600"/>
              <a:ext cx="406800" cy="398880"/>
              <a:chOff x="6916320" y="4827600"/>
              <a:chExt cx="406800" cy="398880"/>
            </a:xfrm>
          </p:grpSpPr>
          <p:sp>
            <p:nvSpPr>
              <p:cNvPr id="232" name=""/>
              <p:cNvSpPr/>
              <p:nvPr/>
            </p:nvSpPr>
            <p:spPr>
              <a:xfrm>
                <a:off x="6916320" y="4827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51680" y="504756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916320" y="5101920"/>
              <a:ext cx="406800" cy="398880"/>
              <a:chOff x="6916320" y="5101920"/>
              <a:chExt cx="406800" cy="398880"/>
            </a:xfrm>
          </p:grpSpPr>
          <p:sp>
            <p:nvSpPr>
              <p:cNvPr id="235" name=""/>
              <p:cNvSpPr/>
              <p:nvPr/>
            </p:nvSpPr>
            <p:spPr>
              <a:xfrm>
                <a:off x="6916320" y="51019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51680" y="532224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916320" y="5376600"/>
              <a:ext cx="406800" cy="398880"/>
              <a:chOff x="6916320" y="5376600"/>
              <a:chExt cx="406800" cy="398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916320" y="5376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51680" y="5596920"/>
                <a:ext cx="27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1935720" y="5916600"/>
            <a:ext cx="67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Can you See Profit Maxim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5305320" y="1706400"/>
            <a:ext cx="2833920" cy="4499280"/>
            <a:chOff x="5305320" y="1706400"/>
            <a:chExt cx="2833920" cy="4499280"/>
          </a:xfrm>
        </p:grpSpPr>
        <p:sp>
          <p:nvSpPr>
            <p:cNvPr id="242" name=""/>
            <p:cNvSpPr/>
            <p:nvPr/>
          </p:nvSpPr>
          <p:spPr>
            <a:xfrm>
              <a:off x="5308560" y="1706400"/>
              <a:ext cx="2830680" cy="20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05320" y="4148280"/>
              <a:ext cx="283068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186000" y="1708200"/>
            <a:ext cx="2125800" cy="4500000"/>
            <a:chOff x="3186000" y="1708200"/>
            <a:chExt cx="2125800" cy="4500000"/>
          </a:xfrm>
        </p:grpSpPr>
        <p:sp>
          <p:nvSpPr>
            <p:cNvPr id="245" name=""/>
            <p:cNvSpPr/>
            <p:nvPr/>
          </p:nvSpPr>
          <p:spPr>
            <a:xfrm>
              <a:off x="3189240" y="1708200"/>
              <a:ext cx="2122560" cy="2063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6000" y="4155480"/>
              <a:ext cx="2122560" cy="2052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325600" y="1554120"/>
            <a:ext cx="5816160" cy="4941000"/>
            <a:chOff x="2325600" y="1554120"/>
            <a:chExt cx="5816160" cy="4941000"/>
          </a:xfrm>
        </p:grpSpPr>
        <p:grpSp>
          <p:nvGrpSpPr>
            <p:cNvPr id="248" name=""/>
            <p:cNvGrpSpPr/>
            <p:nvPr/>
          </p:nvGrpSpPr>
          <p:grpSpPr>
            <a:xfrm>
              <a:off x="3189240" y="1706400"/>
              <a:ext cx="4952520" cy="2066760"/>
              <a:chOff x="3189240" y="1706400"/>
              <a:chExt cx="4952520" cy="206676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3189240" y="1706400"/>
                <a:ext cx="4952520" cy="2066760"/>
                <a:chOff x="3189240" y="1706400"/>
                <a:chExt cx="4952520" cy="2066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189240" y="1706400"/>
                  <a:ext cx="4952520" cy="20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197160" y="2730240"/>
                  <a:ext cx="494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197160" y="3249360"/>
                  <a:ext cx="494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197160" y="2216160"/>
                  <a:ext cx="494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691080" y="1709640"/>
                <a:ext cx="3949560" cy="2055600"/>
                <a:chOff x="3691080" y="1709640"/>
                <a:chExt cx="3949560" cy="205560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369108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467352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16744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18320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65452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614988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664848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714384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7640640" y="170964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 flipV="1">
                <a:off x="8136000" y="1709640"/>
                <a:ext cx="0" cy="20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189240" y="4148280"/>
              <a:ext cx="4943520" cy="2066760"/>
              <a:chOff x="3189240" y="4148280"/>
              <a:chExt cx="4943520" cy="2066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189240" y="4148280"/>
                <a:ext cx="4943520" cy="20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3191040" y="4838400"/>
                <a:ext cx="4941720" cy="687240"/>
                <a:chOff x="3191040" y="4838400"/>
                <a:chExt cx="4941720" cy="687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191040" y="5525640"/>
                  <a:ext cx="494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191040" y="4838400"/>
                  <a:ext cx="494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699000" y="4151160"/>
                <a:ext cx="3949560" cy="2055600"/>
                <a:chOff x="3699000" y="4151160"/>
                <a:chExt cx="3949560" cy="205560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369900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468144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7536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419112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566244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615780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65640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715176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7648560" y="4151160"/>
                  <a:ext cx="0" cy="20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2640240" y="1554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240" y="2050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39240" y="25812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7880" y="3089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7680" y="3675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7360" y="40068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36000" y="46814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6000" y="53672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35080" y="611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555720" y="3735360"/>
              <a:ext cx="4264560" cy="307080"/>
              <a:chOff x="3555720" y="3735360"/>
              <a:chExt cx="4264560" cy="307080"/>
            </a:xfrm>
          </p:grpSpPr>
          <p:sp>
            <p:nvSpPr>
              <p:cNvPr id="290" name=""/>
              <p:cNvSpPr/>
              <p:nvPr/>
            </p:nvSpPr>
            <p:spPr>
              <a:xfrm>
                <a:off x="3555720" y="3735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41720" y="3735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527360" y="3735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24160" y="3735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65160" y="3735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51160" y="3735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47960" y="3735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55920" y="3735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41560" y="3735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563640" y="6188040"/>
              <a:ext cx="4264560" cy="307080"/>
              <a:chOff x="3563640" y="6188040"/>
              <a:chExt cx="4264560" cy="307080"/>
            </a:xfrm>
          </p:grpSpPr>
          <p:sp>
            <p:nvSpPr>
              <p:cNvPr id="300" name=""/>
              <p:cNvSpPr/>
              <p:nvPr/>
            </p:nvSpPr>
            <p:spPr>
              <a:xfrm>
                <a:off x="3563640" y="6188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49640" y="6188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35280" y="6188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32080" y="6188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080" y="618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59080" y="618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55880" y="618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63840" y="618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49480" y="618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rot="16200000">
              <a:off x="2155320" y="248004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1711800" y="48445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otal 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320" y="75960"/>
            <a:ext cx="7467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nopoly Revenue and Cos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52120" y="746280"/>
            <a:ext cx="708660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33"/>
                </a:solidFill>
                <a:latin typeface="Arial"/>
              </a:rPr>
              <a:t>Demand, Marginal Revenue, and Total Revenue for a Pure Monopolist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71080" y="14288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760" y="14288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Ine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2360" y="123660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mand and Marginal Revenue Cu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99920" y="387828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tal-Revenue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178080" y="1893960"/>
            <a:ext cx="4376880" cy="4300560"/>
            <a:chOff x="3178080" y="1893960"/>
            <a:chExt cx="4376880" cy="4300560"/>
          </a:xfrm>
        </p:grpSpPr>
        <p:sp>
          <p:nvSpPr>
            <p:cNvPr id="318" name=""/>
            <p:cNvSpPr/>
            <p:nvPr/>
          </p:nvSpPr>
          <p:spPr>
            <a:xfrm>
              <a:off x="3189240" y="1893960"/>
              <a:ext cx="2232000" cy="19922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78080" y="1893960"/>
              <a:ext cx="4365720" cy="183996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8080" y="4253040"/>
              <a:ext cx="4376880" cy="1941480"/>
            </a:xfrm>
            <a:custGeom>
              <a:avLst/>
              <a:gdLst/>
              <a:ahLst/>
              <a:rect l="l" t="t" r="r" b="b"/>
              <a:pathLst>
                <a:path w="2757" h="1223">
                  <a:moveTo>
                    <a:pt x="0" y="1223"/>
                  </a:moveTo>
                  <a:cubicBezTo>
                    <a:pt x="208" y="896"/>
                    <a:pt x="417" y="569"/>
                    <a:pt x="638" y="366"/>
                  </a:cubicBezTo>
                  <a:cubicBezTo>
                    <a:pt x="859" y="163"/>
                    <a:pt x="1068" y="0"/>
                    <a:pt x="1324" y="2"/>
                  </a:cubicBezTo>
                  <a:cubicBezTo>
                    <a:pt x="1580" y="4"/>
                    <a:pt x="1935" y="175"/>
                    <a:pt x="2174" y="379"/>
                  </a:cubicBezTo>
                  <a:cubicBezTo>
                    <a:pt x="2413" y="583"/>
                    <a:pt x="2636" y="1047"/>
                    <a:pt x="2757" y="122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311960" y="3259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53280" y="3456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28080" y="54975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4152960" y="782280"/>
            <a:ext cx="195120" cy="2100240"/>
          </a:xfrm>
          <a:custGeom>
            <a:avLst/>
            <a:gdLst>
              <a:gd name="textAreaLeft" fmla="*/ 0 w 195120"/>
              <a:gd name="textAreaRight" fmla="*/ 70560 w 195120"/>
              <a:gd name="textAreaTop" fmla="*/ 54720 h 2100240"/>
              <a:gd name="textAreaBottom" fmla="*/ 2045520 h 21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625800" y="436320"/>
            <a:ext cx="195120" cy="2786040"/>
          </a:xfrm>
          <a:custGeom>
            <a:avLst/>
            <a:gdLst>
              <a:gd name="textAreaLeft" fmla="*/ 0 w 195120"/>
              <a:gd name="textAreaRight" fmla="*/ 70560 w 195120"/>
              <a:gd name="textAreaTop" fmla="*/ 72360 h 2786040"/>
              <a:gd name="textAreaBottom" fmla="*/ 27136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MHE</cp:lastModifiedBy>
  <dcterms:modified xsi:type="dcterms:W3CDTF">2006-10-11T19:04:36Z</dcterms:modified>
  <cp:revision>192</cp:revision>
  <dc:subject>McConnell-Brue Economics</dc:subject>
  <dc:title>Chapter 22</dc:title>
</cp:coreProperties>
</file>